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12325"/>
</p:presentation>
</file>

<file path=ppt/commentAuthors.xml><?xml version="1.0" encoding="utf-8"?>
<p:cmAuthorLst xmlns:p="http://schemas.openxmlformats.org/presentationml/2006/main">
  <p:cmAuthor id="0" name="StarUML" initials="S" lastIdx="2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<Relationship Id="rId11" Type="http://schemas.openxmlformats.org/officeDocument/2006/relationships/commentAuthors" Target="commentAuthors.xml"/>
</Relationships>
</file>

<file path=ppt/comments/comment1.xml><?xml version="1.0" encoding="UTF-8" standalone="yes"?>
<p:cmLst xmlns:p="http://schemas.openxmlformats.org/presentationml/2006/main"><p:cm authorId="0" dt="2005-10-29T12:41:54.609000000" idx="1"><p:pos x="4616" y="2736"/><p:text><<DISPLAY-TEXT>>
::;current().Author;</p:text></p:cm><p:cm authorId="0" dt="2005-10-29T12:41:54.609000000" idx="2"><p:pos x="4616" y="2960"/><p:text><<DISPLAY-TEXT>>
::;current().Company;</p:text></p:cm><p:cm authorId="0" dt="2005-10-29T12:41:54.609000000" idx="3"><p:pos x="2402" y="3202"/><p:text><<DISPLAY-TEXT>>
::;current().Copyright;</p:text></p:cm><p:cm authorId="0" dt="2005-10-29T12:41:54.609000000" idx="4"><p:pos x="1376" y="1200"/><p:text><<DISPLAY-TEXT>>
::;current().Title;</p:text></p:cm></p:cmLst>
</file>

<file path=ppt/comments/comment2.xml><?xml version="1.0" encoding="UTF-8" standalone="yes"?>
<p:cmLst xmlns:p="http://schemas.openxmlformats.org/presentationml/2006/main"><p:cm authorId="0" dt="2005-10-29T12:54:39.343000000" idx="5"><p:pos x="1296" y="1368"/><p:text><<DISPLAY-TEXT>>
;current().Documentation</p:text></p:cm></p:cmLst>
</file>

<file path=ppt/comments/comment3.xml><?xml version="1.0" encoding="UTF-8" standalone="yes"?>
<p:cmLst xmlns:p="http://schemas.openxmlformats.org/presentationml/2006/main"><p:cm authorId="0" dt="2005-10-29T14:23:02.953000000" idx="6"><p:pos x="0" y="0"/><p:text><<REPEAT>>
{R}::Use Case Model;UMLPackage;;</p:text></p:cm><p:cm authorId="0" dt="2005-10-29T14:23:02.968000000" idx="7"><p:pos x="1344" y="1424"/><p:text><<DISPLAY-TEXT>>
;current().Documentation;</p:text></p:cm><p:cm authorId="0" dt="2005-10-29T14:23:02.968000000" idx="8"><p:pos x="2440" y="472"/><p:text><<DISPLAY-TEXT>>
;current().Name;</p:text></p:cm></p:cmLst>
</file>

<file path=ppt/comments/comment4.xml><?xml version="1.0" encoding="UTF-8" standalone="yes"?>
<p:cmLst xmlns:p="http://schemas.openxmlformats.org/presentationml/2006/main"><p:cm authorId="0" dt="2005-10-29T14:16:46.640000000" idx="9"><p:pos x="80" y="72"/><p:text><<REPEAT>>
;UMLUseCaseDiagram;;</p:text></p:cm><p:cm authorId="0" dt="2005-10-29T14:16:46.640000000" idx="10"><p:pos x="3712" y="448"/><p:text><<DISPLAY-TEXT>>
;current().Name</p:text></p:cm><p:cm authorId="0" dt="2005-10-29T14:16:46.656000000" idx="11"><p:pos x="1016" y="3256"/><p:text><<DISPLAY-TEXT>>
;current().Documentation;</p:text></p:cm><p:cm authorId="0" dt="2005-10-29T14:16:46.656000000" idx="12"><p:pos x="1672" y="1528"/><p:text><<DISPLAY-IMAGE>>
;;</p:text></p:cm><p:cm authorId="0" dt="2005-10-29T14:16:46.656000000" idx="13"><p:pos x="112" y="4120"/><p:text><<ENDREPEAT>></p:text></p:cm></p:cmLst>
</file>

<file path=ppt/comments/comment5.xml><?xml version="1.0" encoding="UTF-8" standalone="yes"?>
<p:cmLst xmlns:p="http://schemas.openxmlformats.org/presentationml/2006/main"><p:cm authorId="0" dt="2005-10-29T14:17:08.078000000" idx="14"><p:pos x="0" y="0"/><p:text><<REPEAT>>
;UMLUseCase;;</p:text></p:cm><p:cm authorId="0" dt="2005-10-29T14:17:08.078000000" idx="15"><p:pos x="2408" y="432"/><p:text><<DISPLAY-TEXT>>
;current().Name</p:text></p:cm><p:cm authorId="0" dt="2005-10-29T14:17:08.093000000" idx="16"><p:pos x="1248" y="1200"/><p:text><<DISPLAY-TEXT>>
;current().Documentation;</p:text></p:cm><p:cm authorId="0" dt="2005-10-29T14:17:08.093000000" idx="17"><p:pos x="1256" y="1624"/><p:text><<DISPLAY-TEXT>>
;trim(current().GetTaggedValueAsString("UMLStandard", "UseCaseSpecification", "BasicFlow"));</p:text></p:cm><p:cm authorId="0" dt="2005-10-29T14:17:08.093000000" idx="18"><p:pos x="1280" y="2048"/><p:text><<DISPLAY-TEXT>>
;trim(current().GetTaggedValueAsString("UMLStandard", "UseCaseSpecification", "AlternativeFlows"));</p:text></p:cm><p:cm authorId="0" dt="2005-10-29T14:17:08.093000000" idx="19"><p:pos x="1280" y="2456"/><p:text><<DISPLAY-TEXT>>
;trim(current().GetTaggedValueAsString("UMLStandard", "UseCaseSpecification", "Preconditions"));</p:text></p:cm><p:cm authorId="0" dt="2005-10-29T14:17:08.093000000" idx="20"><p:pos x="1264" y="2872"/><p:text><<DISPLAY-TEXT>>
;trim(current().GetTaggedValueAsString("UMLStandard", "UseCaseSpecification", "Postconditions"));</p:text></p:cm><p:cm authorId="0" dt="2005-10-29T14:17:08.093000000" idx="21"><p:pos x="4344" y="4160"/><p:text><<ENDREPEAT>></p:text></p:cm><p:cm authorId="0" dt="2005-10-29T14:17:08.093000000" idx="22"><p:pos x="5200" y="4160"/><p:text><<ENDREPEAT>>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45B9-A70A-491A-8415-5FB1344A5F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D87E-398C-460E-BA23-EC0D7048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2382-C7A9-4ED5-B0EB-802C2247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97FD-D191-452F-B95F-1B46E147B9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04256-11F8-4FAE-A8BA-885DE95FEB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DE93E-934F-4B76-9B42-AF765BF6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D0161-B5F4-4C92-A371-798516CC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CD747-80D2-4B78-AB10-0B791D70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94EF0-F995-41A7-8CBE-233C275D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749CA-BF4C-492E-9B98-FD99E34C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6D63C-2253-48A5-9983-4F21647D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EE52-2E93-4BA8-A39C-06270872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8D49D-CF0E-4137-8D89-1B0A58D1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C2A33-2EFD-454E-BE88-876E3C31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04675-3582-455A-97F7-7585EA63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E6B7E-9D9D-4525-9506-939772BC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D73AF-E4A2-4285-8866-C8F6F3ABC3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6068-F563-4A8C-A512-2E649269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4F6F-16D1-4C72-A0F7-B997E696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15D0-B22A-4372-A1DB-A4E5C7F3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79280" y="2133720"/>
            <a:ext cx="6910200" cy="33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1347-04DF-4A6C-98FF-2BF67CEF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78EAD-F4DA-4729-9D58-AE4B7935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49FB-87BE-45C0-931D-29BB6097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29FF-83FC-4C3C-9DBD-F74DD81D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0"/>
            <a:ext cx="8458200" cy="83808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040"/>
            <a:ext cx="2565000" cy="4720320"/>
            <a:chOff x="0" y="842040"/>
            <a:chExt cx="2565000" cy="4720320"/>
          </a:xfrm>
        </p:grpSpPr>
        <p:sp>
          <p:nvSpPr>
            <p:cNvPr id="2" name=""/>
            <p:cNvSpPr/>
            <p:nvPr/>
          </p:nvSpPr>
          <p:spPr>
            <a:xfrm rot="559200">
              <a:off x="939960" y="914400"/>
              <a:ext cx="1264680" cy="4550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082880"/>
              <a:ext cx="2285640" cy="447948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ffc14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3015-A8E2-482C-A509-C2C5E4863392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-258840"/>
            <a:ext cx="2209680" cy="3457800"/>
            <a:chOff x="0" y="-258840"/>
            <a:chExt cx="2209680" cy="3457800"/>
          </a:xfrm>
        </p:grpSpPr>
        <p:sp>
          <p:nvSpPr>
            <p:cNvPr id="8" name=""/>
            <p:cNvSpPr/>
            <p:nvPr/>
          </p:nvSpPr>
          <p:spPr>
            <a:xfrm rot="1135800">
              <a:off x="812880" y="-209520"/>
              <a:ext cx="863640" cy="33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1440"/>
              <a:ext cx="2209680" cy="3200400"/>
            </a:xfrm>
            <a:custGeom>
              <a:avLst/>
              <a:gdLst/>
              <a:ahLst/>
              <a:rect l="l" t="t" r="r" b="b"/>
              <a:pathLst>
                <a:path w="1344" h="2064">
                  <a:moveTo>
                    <a:pt x="672" y="2064"/>
                  </a:moveTo>
                  <a:lnTo>
                    <a:pt x="0" y="2064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864" y="480"/>
                  </a:lnTo>
                  <a:lnTo>
                    <a:pt x="624" y="1152"/>
                  </a:lnTo>
                  <a:lnTo>
                    <a:pt x="576" y="1728"/>
                  </a:lnTo>
                  <a:lnTo>
                    <a:pt x="672" y="2064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179280" y="6137280"/>
            <a:ext cx="1403280" cy="531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4"/>
          <p:cNvSpPr>
            <a:spLocks noGrp="1"/>
          </p:cNvSpPr>
          <p:nvPr>
            <p:ph type="dt" idx="2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EC7E-85CB-4469-A89D-A09E926556F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48520"/>
            <a:ext cx="2450160" cy="4209120"/>
            <a:chOff x="0" y="2648520"/>
            <a:chExt cx="2450160" cy="4209120"/>
          </a:xfrm>
        </p:grpSpPr>
        <p:sp>
          <p:nvSpPr>
            <p:cNvPr id="52" name=""/>
            <p:cNvSpPr/>
            <p:nvPr/>
          </p:nvSpPr>
          <p:spPr>
            <a:xfrm rot="559200">
              <a:off x="907920" y="2720520"/>
              <a:ext cx="1222200" cy="404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870640"/>
              <a:ext cx="2209320" cy="39870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3366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3"/>
          </p:nvPr>
        </p:nvSpPr>
        <p:spPr>
          <a:xfrm>
            <a:off x="36352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F4C8-D2C0-4240-8BA3-93137B7D2C8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20DB-464A-473C-ACA7-5AC266AA2F06}" type="slidenum">
              <a:rPr b="0" lang="ko-K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0"/>
            <a:ext cx="6705720" cy="2286000"/>
          </a:xfrm>
          <a:prstGeom prst="rect">
            <a:avLst/>
          </a:prstGeom>
          <a:solidFill>
            <a:srgbClr val="ff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38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022480" y="1773360"/>
            <a:ext cx="3701880" cy="11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1916280"/>
            <a:ext cx="6553080" cy="95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1979280" y="2133720"/>
            <a:ext cx="691020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14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145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1844640"/>
            <a:ext cx="70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</a:t>
            </a:r>
            <a:br>
              <a:rPr sz="2800"/>
            </a:b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Design Review Document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161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opyright © $$, All right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463E2-9771-4E28-B5A8-1545980D534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CB1B7A-BB4D-4095-BAD3-C9E54479FE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c145"/>
                </a:solidFill>
                <a:latin typeface="Tahoma"/>
              </a:rPr>
              <a:t>Introduction</a:t>
            </a:r>
            <a:endParaRPr b="1" lang="en-US" sz="32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931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Overal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1360-63E7-4175-89F1-C4485C25DF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F03FB14-43FD-43AB-91BB-1AB78FF637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Packag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-2700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DB47-66BC-4FB8-A7F1-D8195523F2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90092EB-4FBD-4B33-9428-79BBE1CF83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 Diagram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71294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640" y="508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$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C48D-7631-4474-A0E9-FC05AE56A2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6391152-2823-4171-B7EC-536A293335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280" y="24084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145"/>
                </a:solidFill>
                <a:latin typeface="Tahoma"/>
              </a:rPr>
              <a:t>$$ Usecase</a:t>
            </a:r>
            <a:endParaRPr b="1" lang="en-US" sz="28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8428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Descrip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Basic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Alternative Flow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re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Tahoma"/>
              </a:rPr>
              <a:t>Postconditions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Tahoma"/>
              </a:rPr>
              <a:t>$$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-27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ahoma"/>
              </a:rPr>
              <a:t>Usecas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E6ED-F40D-4A7E-9EAC-AC3199F8D18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6AB460E-452D-483A-816D-5DF37F2725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87105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600" spc="-1" strike="noStrike">
                <a:solidFill>
                  <a:srgbClr val="ffc145"/>
                </a:solidFill>
                <a:latin typeface="Tahoma"/>
              </a:rPr>
              <a:t>Thank You</a:t>
            </a:r>
            <a:endParaRPr b="1" lang="en-US" sz="6600" spc="-1" strike="noStrike">
              <a:solidFill>
                <a:srgbClr val="ffc1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E9DD5-2468-4F32-AA5D-69548853711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3AD775-84F7-4FC3-9F86-2A2F5B3183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5:58:58Z</dcterms:created>
  <dc:creator>StarUML</dc:creator>
  <dc:description/>
  <dc:language>en-US</dc:language>
  <cp:lastModifiedBy>김현수</cp:lastModifiedBy>
  <dcterms:modified xsi:type="dcterms:W3CDTF">2005-11-02T04:49:55Z</dcterms:modified>
  <cp:revision>101</cp:revision>
  <dc:subject/>
  <dc:title>Design Review Document</dc:title>
</cp:coreProperties>
</file>